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393-EBAE-4AAD-8346-76E32799D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285E-BF34-4979-ADF8-014C5D3EA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6B97-2EE2-4CE8-B562-E9F076ED2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B7F-D5EC-471A-BCB2-CDC444267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13E-B6D3-41AC-BCFA-33A16E72E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8F0-A20C-4BA6-A9A2-ACE62967B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FD9-4A6B-4D7A-9FDF-642788F20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CE9-228B-4913-8EAD-2AD235019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F4B-BF96-45A4-B175-5A01BF7EF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D87-B075-45FA-8244-8DB0FAEC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997-1224-4E7E-9CF9-8338DB9F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F1C-B89C-44D5-BB08-BFCF1433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84-D919-4D2B-B538-C932BB04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15A-644E-49F3-B1D8-8A20B056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55B-5C67-4C96-B1E5-1B7EADA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D16-A6A9-488C-80B5-77028BC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0B9-74C0-488A-93C3-19A8FE6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4A4B-CF3E-4150-B787-76DD94A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9994-F1AD-4D20-BC76-1DBE859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4B4-801F-4845-BE6C-4C49D09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174-762C-4173-AC31-4A7C0977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EBD-5A51-40F2-8C87-9BD70C9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D9D-7483-441E-8D92-735F19D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11E-8378-4886-AF60-44646B0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620-C0E4-4726-A2BA-EB6BC693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DF0C-C73B-4F93-9D94-FC678D12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B394-E996-44FE-B278-07651918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EFC3-2E8B-48FF-B9C9-218E8D2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5E27-1D45-41D2-A11C-BEAC043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63D4-3736-40F8-BD88-BF268957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FE4A-7A67-4A40-8968-D92AE82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E8E-AA12-4845-8200-8886246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CA0B-2C59-4D94-9578-5200718F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349D-6312-46F9-B5B1-24F13B4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1418-030D-4D46-A595-D8B86B1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4769-E7A7-46CA-8C9D-06A8400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D8D0-E319-44FB-9DFC-5BEE9CEB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F898-8465-47DF-88FA-0401FAAD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B08E-1531-4278-9758-CACED8C1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4EA5-B2D9-425F-BFBD-E92AD77B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A677-464D-4ADF-8910-24DBC1EB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9D0A-6833-4C04-B629-B6140BB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934-1DC0-4737-A396-030B7A9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EE67-C59E-41A5-A2BB-B109283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65CE-A125-4E74-8880-FCDE2CD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F239-8BD4-4932-B834-23E4D446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6E98-3168-4FDB-A22F-FC07382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9E93-C086-4545-8CC5-ED74AD2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97F5-7BDB-4928-89DA-6614925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97BF-7FDD-4A5B-9862-8DD2E86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9F3F-9A2B-4BD8-93FD-A8047436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B8EB-E815-4ACB-BA12-7C43995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BFC-DFD5-4738-82BD-954C3745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EC5-C16B-4075-8B88-EFCD1EE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A8A-AF61-4D2B-A759-C6793B1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13F-1754-4023-9C25-0BBA9D2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8B1-8415-4E4C-B9FD-8CF91A5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F00-27A4-4659-A6AE-A776B1ECC74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A98-CFC4-4752-A3CA-DA627FF651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CEEB-6DFF-43E3-84D7-A88C0B27D79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471-D867-42B0-BF3A-EAB17CE6954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D22A-5DFC-4253-9CFD-4FC244FD308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AC0-4E18-4D15-BE03-9D345E4E2B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8A1-A5D0-4D3D-9F46-F502907074C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2C64-E10C-4679-9308-9E050A42D6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canpress.com/US/CreatorDetails.aspx?cid=34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8345520" cy="1888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80520" y="3228480"/>
            <a:ext cx="80074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Born: February 10, 1955 in Toronto, Ontario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Currently lives in Port Perry Ontario with her husband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Robert Courtice, their son, and cat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Studied Illustration at Sheridan College in Oakville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Ontario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nstantia"/>
              </a:rPr>
              <a:t>       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Clark_Brenda_0034_large.jpg"/>
          <p:cNvPicPr/>
          <p:nvPr/>
        </p:nvPicPr>
        <p:blipFill>
          <a:blip r:embed="rId2"/>
          <a:stretch/>
        </p:blipFill>
        <p:spPr>
          <a:xfrm>
            <a:off x="838080" y="533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~PP2897.WAV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Backgroun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renda started her illustration career as a freelancer in educational publishing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he signed her first contract with Kids Can Press in 1983 for a story called 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Christopher and the Dream Dragon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ritten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y Allen Morgan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85 Brenda was offered to illustrate 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Franklin in the Dark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 written by Paulette Bourgeois.  The book received rave reviews and a series of Franklin books about the popular character was develop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~PP2999.WAV" descr=""/>
          <p:cNvPicPr/>
          <p:nvPr/>
        </p:nvPicPr>
        <p:blipFill>
          <a:blip r:embed="rId1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Franklin Seri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nda has illustrated more than 30 Franklin titles and numerous activity books for the ser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franklindark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85800" y="2971800"/>
            <a:ext cx="2133720" cy="258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franklinsaysiloveu.jpg"/>
          <p:cNvPicPr/>
          <p:nvPr/>
        </p:nvPicPr>
        <p:blipFill>
          <a:blip r:embed="rId2"/>
          <a:stretch/>
        </p:blipFill>
        <p:spPr>
          <a:xfrm>
            <a:off x="3352680" y="3048120"/>
            <a:ext cx="2095560" cy="2390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goestosch.jpg"/>
          <p:cNvPicPr/>
          <p:nvPr/>
        </p:nvPicPr>
        <p:blipFill>
          <a:blip r:embed="rId3"/>
          <a:stretch/>
        </p:blipFill>
        <p:spPr>
          <a:xfrm>
            <a:off x="6095880" y="3048120"/>
            <a:ext cx="1981440" cy="2367000"/>
          </a:xfrm>
          <a:prstGeom prst="rect">
            <a:avLst/>
          </a:prstGeom>
          <a:ln w="0">
            <a:noFill/>
          </a:ln>
        </p:spPr>
      </p:pic>
      <p:pic>
        <p:nvPicPr>
          <p:cNvPr id="217" name="~PP412.WAV" descr=""/>
          <p:cNvPicPr/>
          <p:nvPr/>
        </p:nvPicPr>
        <p:blipFill>
          <a:blip r:embed="rId4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1997 the first animated episode of Franklin was televised on Nickelodeon.  The series was modeled after the popular character created by Brenda Clark  and Paulette Bourge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franklin.jpg"/>
          <p:cNvPicPr/>
          <p:nvPr/>
        </p:nvPicPr>
        <p:blipFill>
          <a:blip r:embed="rId1"/>
          <a:stretch/>
        </p:blipFill>
        <p:spPr>
          <a:xfrm>
            <a:off x="3124080" y="27432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57200" y="5029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nda also helped to launch a series of Franklin spin-off books based on the Nickelodeon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~PP3521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Award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9 IODE Book Award Toronto Chapter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ittle Finger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0 Children’s Choices, International Reading Association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’s Class Tri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2 International Reading Association Young Adult Choices, shortlist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 &amp; Harri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3 International Reading Association Young Adult Choices, shortlist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 Says I Love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~PP948.WAV" descr=""/>
          <p:cNvPicPr/>
          <p:nvPr/>
        </p:nvPicPr>
        <p:blipFill>
          <a:blip r:embed="rId1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Technique and Sty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nda uses transparent and opaque watercol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Placeholder 10" descr="0032_cv2.jpg"/>
          <p:cNvPicPr/>
          <p:nvPr/>
        </p:nvPicPr>
        <p:blipFill>
          <a:blip r:embed="rId1"/>
          <a:srcRect l="0" t="5887" r="0" b="58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~PP159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704880"/>
            <a:ext cx="807732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ranklin in the Dar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Franklin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5800" y="1447920"/>
            <a:ext cx="8078760" cy="510516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~PP2184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adian Children Book Centre. (1999)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orymakers illustrating children’s books: 72 artists and illustrators talk about their work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ntario: Pembroke Publishers Limi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Can Press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Brenda Clark, illustrotor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trieved from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idscanpress.com/US/CreatorDetails.aspx?cid=3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n February 2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te L. (2002) Dream job: Brenda Clark bringing books to life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ronto Su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Toronto: Sun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~PP3963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0:11:29Z</dcterms:created>
  <dc:creator>Valued Acer Customer</dc:creator>
  <dc:description/>
  <dc:language>en-US</dc:language>
  <cp:lastModifiedBy>Drew</cp:lastModifiedBy>
  <dcterms:modified xsi:type="dcterms:W3CDTF">2010-03-19T00:11:49Z</dcterms:modified>
  <cp:revision>29</cp:revision>
  <dc:subject/>
  <dc:title>Brenda Clark</dc:title>
</cp:coreProperties>
</file>